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B6D7F6-42CE-49CC-B660-ABF509F07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F72AC7-DE4A-45C0-BADD-4141716D7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4D89DB-4853-4365-A2DF-734436003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CC82FC-4603-4F44-AD40-B713149ED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6EEDC-92B4-4970-8B88-3DD5472B3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36178-13B2-41B9-AE44-4CA8C4AE1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AECCD-CA11-4D6A-8583-4497E3B5B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C2082-C5D9-4FDA-B12E-1B50FC425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F82E2-1854-4C8B-9119-D8ABEF16E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98A27-402A-41B4-93C1-A2D5570DD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C5433-3521-4847-B775-10C0EBA80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0AD3C7-5E8A-41D4-9A66-D6981F68F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CF3CD-8995-4FBB-8FD1-0AE831713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ADC95-DE7D-4298-A063-7D1ED42E2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EF00C-B2B7-4F36-86B5-21FBB8D53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B6916-5C13-4881-8A39-86CF73798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BAC59-2FD0-45FA-9804-91C9E3BCE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E22C64-8E26-4D6E-AF6C-C17E9EF12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825D15-7330-4545-AAC4-A99073CA8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9E18FF-5FD6-4C4C-AF46-B613E06F2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3F1590-C429-45D2-AB83-FD5125360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552D85-9D08-4874-A9EC-5090261D5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FEE2B7-5524-45CF-8603-70DE02E63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93D178-36A6-44A0-984D-9C42C788E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CE64E-E132-4C89-BA8B-DABDE14D412E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2194A-885F-416E-A8B1-B7E335074820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4"/>
          <p:cNvSpPr/>
          <p:nvPr/>
        </p:nvSpPr>
        <p:spPr>
          <a:xfrm>
            <a:off x="0" y="86760"/>
            <a:ext cx="914400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10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(Пр.5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1.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Свят, свят, свят Си, Боже, и превъзвишен!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В ранна сутрин хвалим Те с устни и сърца.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Свят, свят, свят Си, Боже, милостив и мощен!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В век ще Те хвалим с весели лица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1/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0" y="487080"/>
            <a:ext cx="914400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2.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Свят, свят, свят Си, Боже, ако да скрива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мрак Твойто величие от взора на </a:t>
            </a:r>
            <a:r>
              <a:rPr b="1" lang="be-BY" sz="4000" spc="-1" strike="noStrike">
                <a:solidFill>
                  <a:srgbClr val="ffffff"/>
                </a:solidFill>
                <a:latin typeface="Arial"/>
                <a:ea typeface="Arial"/>
              </a:rPr>
              <a:t>с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вета!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Само Ти пресвят Си; никой друг не бива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тъй съвършен в любов и в чистота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2/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2"/>
          <p:cNvSpPr/>
          <p:nvPr/>
        </p:nvSpPr>
        <p:spPr>
          <a:xfrm>
            <a:off x="-181080" y="48960"/>
            <a:ext cx="932508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3.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Свят, свят, свят Си, Боже, и превъзвишен!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Тебе хвалят всички земи, звезди, слънца!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Свят, свят, свят Си, Боже, милостив и мощен!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В век ще те хвалим ние - Твоите деца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3/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7T20:03:35Z</dcterms:created>
  <dc:creator>123</dc:creator>
  <dc:description/>
  <dc:language>en-US</dc:language>
  <cp:lastModifiedBy>SDA</cp:lastModifiedBy>
  <dcterms:modified xsi:type="dcterms:W3CDTF">2010-04-17T08:52:40Z</dcterms:modified>
  <cp:revision>15</cp:revision>
  <dc:subject/>
  <dc:title>Slide 1</dc:title>
</cp:coreProperties>
</file>